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2B0B-818B-4766-9B7C-E2C3CA75E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9AC3-EA96-4219-B71C-E435C001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717BC-DEBD-4524-AD7E-55F2EE04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7994C-067E-4CD6-BD42-5A722D1C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0AED7-350C-42B1-BC6C-007FE855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F7D27-8C15-44E3-9A87-6EFA9DF1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81EDE4-0F42-4F33-9E4E-F21F9788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4EC87-CE20-400A-B8A8-5060373F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F88AF-CDFB-4BE2-8B57-C4681888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01236-2DC1-45F9-8E1C-E9D9448E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C9C62A-E593-4693-8EC4-CC84A9C4C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626DE-FD55-44DD-B7FE-341ABAB4C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1A6F-3C8C-4711-B18C-E9A929503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5A911-486F-4373-B25A-1A56FDB9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F03222-09A0-48EC-817A-F9986402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7247F-B939-46EE-A2EA-721CC767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0F792-ED57-4DB1-B91A-05C674F2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38FBA-AAE8-4F3E-8A83-9FE4B91D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71366-B06C-42BB-8692-5CE4093B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05A4C4-B0B0-47DA-8357-4327217A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358AFF-54E5-414A-B34A-89954C5D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35E01C-21D8-4DD2-8EC8-660DB233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B18DA-97CB-4369-A3A3-51104AB3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35DF-6A2E-4ECE-A28F-AC2D9D316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3AA11-98F7-4C0B-9B9F-9871300FF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5D47C-71A7-43AC-A6A6-C747A4507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331D2-8814-47FE-8F2E-4B463F41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A98D9-4989-4A02-8EE6-9D02CFFD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AF1E7-7184-4BC1-91A5-255B08D7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B342E-EA4A-4DC4-A906-EA58EFC1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64A56-30F2-4DEC-83A0-8707812D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357D9-E3DA-4F3A-9F4D-798E9853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88C01-C766-4632-9BD6-1D38848C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40506-04DE-4B8A-AE6F-1D215B66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3D5E-D2A7-4346-9884-BFCF11010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37AAA-37EF-4C40-B891-1BE58904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796E9-82AB-40C7-8AD6-7A4ABC013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19558-2FC4-444A-BDB0-CF20B3830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9C57E6-20B6-48F5-8F26-4AEB91FA7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09EE90-DB82-48C7-A970-4D7B1FF8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52C094-867D-4782-903E-D6C17EE9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D3AE57-9DAA-4D76-B318-6A080CE7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5BA0A5-4094-4740-B6FF-941614D9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42C437-7744-4872-8BE2-D9E65F0B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106EB3-400E-49FF-883B-146047C8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02D4-48B5-4C08-90AD-BF6241A8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48EA5E-8F29-4EF8-99DB-7EA381CD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C84744-C6B1-491F-BDE8-F011A804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E17326-B71C-48C1-AA8D-416FF7F9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4DD9A2-7E1C-4348-807C-6BE20AB68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51BF27-FF77-48E2-9DFF-716EDB431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1B94DD-F9E1-4CD0-9098-1AB38532E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11D548-BFCC-4E56-9895-5C72C111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28064A-2402-478F-AE16-BC2F32AD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B0CFC5-7964-4C6F-9C85-B84118BC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AAB99D-3B86-4883-8538-92E4987B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02E9-4A7E-4323-904B-B3A30B6F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31F3EA-769A-4FE2-A1EF-4FAB4834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E85E8E-AA14-4CF1-8213-9245ED15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671A23-5CA6-431D-89E3-802CCFDA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3E352D-6F24-4EC2-BFD4-987287C8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1D5CFC-4901-4B8E-8633-C13C05E7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662A7A-86F7-4D28-87F3-E169B0DCF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6FD764-5DC0-4355-B0AB-74CA97F24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20ED5E-485B-4099-9D35-80E91F13F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EFB925-2133-49EC-8F25-D2AC6382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F1D2A9-0295-4438-AE1B-A064339D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3A97-DBAB-4AC2-95B2-6E3D7C13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9FED21-8195-4C26-9E08-D2B1F34B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7C0FF2-E7CF-4F31-B2D2-B43A9A75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A3B9B2-A9A1-41D5-883F-0834AD6A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C55C3B-2889-4063-9F3E-69547A14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B4E7A3-E091-4C1F-B238-9E125B75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17EE7F-340A-4D4D-A158-01CE12CF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F82C7E-3632-4849-AFCA-2BDE2639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C333BF-A2EC-41BE-A542-00ACEF525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7112B1-F6B2-4947-864E-E497E7DB1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823BBF-1C9E-480C-ABE0-CC8E9CACC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90D8-16FA-45EF-9F02-B1FA097A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F45CD7-4F73-4F8E-AF93-14CB0E33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8EFCD1-F285-4520-B481-791FAD04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A564B8-160D-48F0-8133-667FA078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8F6DD0-7951-4D81-8675-399B628F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C9BFEE-1AF0-4D24-8578-B4957B6F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091F7E-0F21-4BEA-9FBB-ED9C001D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5AB115-7DC6-4275-858A-376396FE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AB6352-049D-44B4-95EA-80D02F62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BD0A36-BB24-484B-86DB-7ED0776F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239A93-BB7E-45D8-B2C3-4B4348AF8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C3DE-DD39-49EE-A216-A5DC55F7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B3EC49-B96D-4601-A181-C39908E7A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6B7EA2-ADE5-4253-B516-D975506DE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B3DB2E-430F-4AB9-A281-C947857C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C9EDE7-8665-4A9C-8A74-88CCC9A1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A4349F-CAB9-4B67-A50B-AA9F5E5D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8F72A1-F65A-4A42-BEFA-C824315D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B4A128-BA0A-4596-9A57-AB4DB934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C2916E-5783-4174-BF7C-FBBB7D97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A571DA-ABE9-41B2-8BA6-73CAC001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94F14B-103C-48B2-BFAC-FFCAA1C4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D6AD-025A-4D2D-AA44-F0724D68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7D6D31-E81D-480C-AB60-65D176C6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65A97B-D877-435C-9448-A9A3266F0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DC34B0-9C5B-487D-A2AB-82005BB7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A49450-EE06-4821-A891-E6BE75F19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2C37C8-6D48-4430-9B2D-53D7DFCF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013113-2566-489C-B1AB-C78AC8AA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2054AF-85EB-4F90-87D4-376E336F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FC3E10-EC91-4381-B693-E92EA81E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8B1F2D-5A1C-4092-A696-EC36ACB1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8153BF-855B-414A-B943-79121AD0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AFDE-F99E-4259-889E-26F2E559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C3A9-CCD4-4459-9196-5E85320E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B926C6-739F-47AF-ADA2-152F07F9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429A84-2AE2-479E-801A-8A62AFD2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B65166-0C9A-4BD0-9D08-FB5809F4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2DCD0F-D549-42A1-A637-EBD6D5DE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DF677B-6EF7-4C8B-A534-BA609D412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DEC239-0BA0-4321-8CA9-D95E77247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7B92E9-BAB5-475A-B59B-47D9BF5E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DAADDB-A337-4311-894D-2D87E19E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BB3B89-97BD-4FEC-81F4-B309DDF3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4398F6-8A6D-4560-8C0A-2716EC8E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F7C7-C51C-4E17-A4F5-7455F6F7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21C0E3-9487-4E12-B82E-A0E1375B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B9D9DE-D2FD-408A-90D6-B5C80A1E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F35D86-BBD5-4793-B7EC-F735F239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CF3BBE-33D6-4AAD-9008-CD3F2A2D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4324FE-4D78-4EDD-831C-82EE4D66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0DD1F9-2C85-46D5-8129-0DD218E15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724995-0860-49AD-B4A0-F8FE64F30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12AA80-9397-490B-A6CA-E453769B6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391015-5296-40C1-9AB4-52C71441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1EC915-5F08-40B6-BE87-99C8D4C0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0483-0FE6-42EE-A7A5-3E4A4877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8BBF06-4157-4761-B92D-CC006007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0CE973-ABAD-40FA-87A4-7CD4CF1B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7B79E2-24A3-4E54-BB97-A5FCFB3D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5FAF15-A7EB-4100-B570-9CC9EA29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A96213-B6F6-4918-A15C-40658081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7CC816-B2ED-4913-93C1-2F0E64AA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28B92E-A861-4BA0-854B-A2F3C329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B00CBC-7F9E-4071-A208-D2AB45195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D8B7BB-6743-4620-AB8E-1BD894C56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6CE8CC-670C-4489-93FF-85F51C4C6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1D0B-482D-4FF5-9B3A-EDBE5A07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6ECEDB-BA53-4646-8179-9722FEEB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65D47D-D98A-4C85-A200-E0232D7D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85F88F-109F-41F6-8FE1-D3F0C2DA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495677-25E8-4AD4-AE59-1CDB6D93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2264F6-BABE-4FE4-887C-E33D9563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C1A0CD-5B41-457B-9C04-48050A48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E79745-EC6A-4E60-895F-DF97F39E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C3F3BE-19A4-4F47-9780-3F125B93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29DBF6-7C63-4A12-88DF-11E463AC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4A5F35-065F-43CE-820E-A872EFA2A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2586-09DB-4954-9319-6C7EF1F50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DCEE40-7D36-46EB-8144-5BCC39909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3190BD-2287-4FBD-B567-ABB64BA8C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4FDFFE-047F-4663-902D-B21BA9D5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BE9A7A-1C0F-4B52-AC6A-94101B47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7B8260-9E6C-407E-8A94-03613546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4D72C2-C25E-49C3-B026-E4076C25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4047F6-2839-4242-83E0-BEEDAB50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82056B-BE94-4889-B3A3-937E5157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B14304-FCDA-4EDC-9C14-2501F75D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BAAC04-61D9-492D-9DE1-8A46036E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61AE1-A7ED-4809-B983-FFD528F0C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942639-3FBB-484E-874D-3632EEE8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359B86-884C-4585-A4EE-7BFD2ED36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BA1401-AD04-4D31-8FEF-381D4496B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81FD96-DD6F-4166-B713-582E12D7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AA18AF-C71A-4567-94C8-CD3799A3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6F32A0-C5AA-4DF2-825F-9BF1AE3B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E95D27-7FE0-48F6-B8A7-E3B5D4E7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9BCF0F-DA2F-4144-A57B-8A13EBDE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65D6C0-786E-40C2-A905-F65A4FD2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60E54A-4EE1-4B6F-A1F2-8A77B2E2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84D48-949A-4042-B859-7C1A8F7B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583BC4-C692-4E25-8F33-A9CF5767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7701E3-DE8D-4EE0-9E36-7FD0CF89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719D3A-F0C7-4D74-9E82-1A673FAE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3564DF-3482-4A3D-8130-0F390E48A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A08092-DAD7-4C07-B3D3-B3B20B059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78133A-48DC-4210-AD68-30A157BFC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172DCA-6090-4B31-BFA7-6C473BFE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6AE3E7-FC24-4E40-B96E-CA649FB9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B1903C-068F-4C6D-843B-58E1168B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272B26-81BE-4292-B862-3237A51D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BC141-05F8-4212-AF36-F842EA1F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A8D143-AEEE-4C88-9DD6-237E3959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641648-E231-40A1-8318-51A5B57C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528F09-9DC2-45BB-8936-1A3967DB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48133B-0920-4E4E-8F38-4D3CC8AD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BEF0C7-0FC8-40FE-8CAB-3BA1F4F9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83E882-9B34-400E-9BD4-B4973E306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279A18-D088-4C27-B2D1-C8536F702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E98094-D425-4902-BC69-BBDDE5106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462641-903A-4E1B-9A5B-EEC8DD78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85C1A1-3E72-4738-89A0-09AEEEDF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A9019-6181-468E-A807-0101C403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33B307-3FE8-4A74-AEAB-CDAD527B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303EBC-8B2C-47BA-822E-A701B707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02B2D5-1628-4A62-86A2-AD0D1E8F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6BA79D-F01B-4AF8-8F25-38E53797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4BAA5B-F927-4218-8B62-596453C6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D2D22D-E683-442D-A2BF-A7A0808B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101F7B6-AD31-40AA-8DF9-9A66C828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515DEA-D6D1-4F7D-927F-28839DC94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4EC4D4-3AAD-40D6-A606-E816459DF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E0609E-C5E3-40D1-8A9F-383BDEB5F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F3927-A289-47EF-98E4-834C3679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B208C1-9DDE-44F1-95C4-1EB93E86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D9177C-643A-472A-B7E6-B80FC717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80AB282-AA78-4143-855B-B56CAA85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34A4E0-6E27-45D7-BE81-B87575D4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ED1090-767E-4C59-ADBF-B30F8ED5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D1D8DF-D844-45AF-939C-94DF307D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140104-56FE-480C-9F0B-0A08A410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3C14D4D-A9BB-4A49-AFEF-D5316A57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171532-6CB9-41E6-B72B-CD9D4C41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9DD883-41B8-46F0-AE26-A39E12399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F418-5FEA-4AD8-99F1-345030F2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CCAFD-8876-4CB8-8929-35F64164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955A83-BDE5-467F-BBBB-5E23F171E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0388915-39A2-495E-A75B-8A74C8B4F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BF3D63F-5CB3-478C-ADF4-B1AD5548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1248618-7551-4E6E-AC72-630D13DD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B216C95-1096-445A-94A8-9030286D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11DE6D7-E226-4DAE-B7A6-6F93EEA0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C7411F6-9816-4665-8535-7E64DE1A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E182B88-B811-4B35-88C8-189768D4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5FB68D0-57E2-4B52-97E9-2336F103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BC955F-701B-4576-A1F5-D464EBD7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ACA79-090E-4F42-8748-54400BCC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F3A3C3B-2334-4E20-B754-637253D6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23FAFB-87CA-425B-8C62-A54F1F9A9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3E0FB97-35A0-4376-8A50-5662BDA4E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69C91B0-6787-4198-B544-C5C7B4D2C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DDED305-3580-457E-BC40-DA9F89D8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5653DDB-9FD4-4F18-A755-8320E6C0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6262BA4-B8E6-488C-98F5-9D371988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BA20D69-6340-4188-899B-4FA16D8C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BD6454E-EF51-40CD-BAF8-B40DC2C7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BE28B25-0920-4412-9817-12D8232D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20816-3E55-48E7-96F3-B01BAD9F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9B17704-CA6D-4664-9203-E44525AE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1874376-E0E6-46A5-9DAF-1297B0AD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F7F21D-8A22-415F-8C96-A44E8D37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4E7BAB7-4B6F-4A53-9656-7BBF7851D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02F0B3F-CD8C-46FB-BBA2-75D76A58E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DC50D62-205E-4E03-86F3-F4D9BBE62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877F854-2D03-4146-AC05-F6BA28A1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33E38EC-3FDD-4E57-9DF8-63ED2678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59B2895-866B-41EB-84A2-E51E7ED1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F1EB6C2-4586-4E99-A58F-21AAD3C0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11410-6301-44B3-9BC1-7A29BEA6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8354B88-6A1D-40DD-B402-C111E2D4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CAC346C-44DA-4692-BDB2-8DA0A9A3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EFF64B4-DF3B-4440-A9A8-550229E1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217E552-EA19-4272-A348-EE785EC2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1364441-C24B-4055-9C2A-C8AC1D89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47C237C-B24E-4220-9B2E-C88FCC008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AF7AE36-A0EF-47E0-94AD-B6F868745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F4BDEE6-0A18-4282-89ED-81A97CACD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B7CF2C7-059B-4B95-A89E-09C85A89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3DEF1C6-BFA5-4291-A05B-211CAE91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42EDC-082E-42D4-B4A7-D0AE15DE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BADB388-CD12-4BF6-9D05-B3A64B0A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24D3CEF-4580-4AD7-BB3F-15039440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93E9E78-DEFA-4CB4-89BC-6339EAF1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668AFBF-2A3C-49D1-8AD0-67AA5C97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B5E4AD6-EAE2-4805-BEC9-AB23DC6C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7B98A99-0659-401A-AB59-8502E15F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2518857-B535-4DCA-9640-A9DDADC6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6D0F934-A9DE-4DE9-869E-B8F75AF6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FDEEAA2-0510-406A-B938-A565489E5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12DD343-10FF-47B3-A7BF-85917221E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458D9-8615-4135-B8D0-D1CF3A218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12AEC25-8543-4587-8294-B772CD81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B60E66A-05DF-478B-B38D-B4844378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7D47CED-3AEE-4FFA-86A0-462DC5B4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76113D3-1F25-4C89-BBBE-6996B31F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E669F26-E3CA-4899-8D1A-1ECB6750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372B9EC-274C-4CDD-89EA-1CB1FDD4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CE4BC3B-8AE0-4862-BA22-CB39C0F9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BE7792D-3884-4353-BC45-6AA825C6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B0E5F09-F64C-41FE-B4AC-149AED1B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1308BAB-C608-47B9-B9C2-1A3FC889F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03CB8-F980-453A-B321-EC32D2721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1A262DA-7F69-469E-A187-7A70EEEDD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B754346-4A17-4EA9-9437-377003241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145B002-7596-4F6E-B4A4-99C9EB5F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AB33892-A24F-4041-99FC-C1D266FE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11306BC-D25A-46A3-81F7-0FB176D1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B18D612-8309-469B-A990-E0C8C98B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6942C6-5355-431A-97B2-40F2814E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6950F98-8C4C-4FA4-A1B0-B4C09960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22B3BB1-F90A-497A-9A9C-8807F6F2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142C68A-DAC3-4DB3-B5B6-9A0D922E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9D96F-FB1A-4FCA-BFB4-64BBBBB82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924F434-3971-4503-A512-C354E3E5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8B8A48F-0358-45DD-AB50-899B12182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B228CEA-37B7-450C-BD35-2B48BDCC3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816E7-AA44-4E66-AC1F-F74A3A61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0C762-30DF-4C6A-9218-8DBBD136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DC80-CA28-4339-8FF1-E4FC5B2C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5F814-1339-4923-BA45-C91D91DB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990E9-B701-4ED4-BF7E-EFAC250F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0E445-2FEF-4C1A-A0F0-BBAFD9BD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9E8EF-D1EE-45E5-AF7A-6630485E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6AB05-C8C7-4B0D-A50C-EFB8380F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6E57A-6370-4141-AC83-A7D52B55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C4E1F-8AC1-45AC-B708-CF70EB1E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92C46-91BB-4AD4-908C-92F8BEFD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5F041-2FF1-40C5-815C-151D161AE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3480A-0FF2-4FB7-B818-AB0DB1073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7200-3FD8-4B0D-8097-46C9520A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57D57-46CB-4C41-A6B5-D7AA9379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681D5-EA9D-4945-BEED-5F00DE10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FE579-6341-4174-A6CE-79EE7462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11DD7-0053-4FEB-869E-22D32421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34DC8-3467-4351-ADA4-B1FC2E7E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ABF9B-14F6-4BA6-A2EA-6BA7F62C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96989-3CD2-4F39-AFCC-A098E346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9E595-A0D4-40E2-BA8F-43722373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86338-C43C-4599-AECB-95F72DA8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65A38-1F5F-46C7-A809-18DBB8C8B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27B2-CECB-4CEE-BE9E-CD2AFDCB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15464-33D0-48E6-B2DE-D96F81242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7EF85-85FE-416E-B871-BC983936A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C9320-3418-4BC1-B3BD-BEBFADA6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FE715-B42B-4323-8E76-1D89D521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A5BC5-B4D2-4A47-8BB7-459227D6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22925-1B49-4713-852E-B6F03B5F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F3688-ABA1-418C-955E-00E3A45B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A932C-ABCF-4EC2-81DE-22A0DC1F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5685C-F136-4DCF-9FA0-B203EB26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0F0CE-D9D4-45F5-B7E8-431C33FE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67EA-73D5-49BD-990B-CFA56334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E608F-D3F9-47FE-B770-22E53E08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09A70-1CA0-49D6-9DF6-317CF312D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BBE4C-C59E-4182-9E19-7C3BD3AEF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86D2C-E66E-4DF7-A48C-F77FB7CB8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353C2-2223-4636-8E99-FDB23256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D384C-0D88-48C5-9836-C32163E5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F0EDD-CF5A-48BF-A4C2-A6BDF75B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CCB58-D8C8-40A9-9214-E1A9328B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44BB2-D71C-44DC-B837-F4E3C951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B6358-31DA-4356-AEDF-03934B9A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3935-F086-44FC-AC72-55B8408B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824EF-FFC6-4FE1-838F-FAD29049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5BFBC-F743-4B98-8CD2-2B6DA9A8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42FD6-A380-45A2-BA95-19870E06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CA61E-AF7B-4009-BE91-D30CA1C01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C82DD-1E1F-415C-967E-715E22BEF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B3FE0-60A6-4B62-A69F-93A97CCA2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82D4C-E012-4913-87D7-0B0EE40F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53AED-44EA-44D6-AB18-E5DB7A49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47958-64B0-4FAA-A2AB-AC63BF3F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602DE-46A9-4599-97AE-B865B874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2334-DA11-405E-B7E7-E541513F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AA992-7ED0-4A27-9522-00524DDD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135CB-40DC-4C01-9A02-2DE926C9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E27E5-10D9-4E11-844E-028BDBE9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4CEC0-F1D7-461B-9228-533D190D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2D9AE-9187-4FDB-B492-90348E51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AAAB0-CB02-4DE6-9529-C289E0F97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F7654-A42B-4B72-B7D6-52A259C2A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FA8CB-D269-4607-8427-D9D6ADEEB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D768A8-EBC2-404E-8157-C40B2F46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D1DC4-6882-4D06-886C-6A0281E6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08C4-D87B-4D69-A248-B3A0F73355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BB89-A8B4-4256-AFAB-71138FBFDA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CD36-68DD-4BDD-BD4A-CD1D175AA9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E432-2280-4F55-A000-FBE1614FBF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2A38-F24E-4652-B292-580B3054B6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404E-9CCE-43D2-B230-07147077E2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B732-40D1-47EC-96AB-01A78A230D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EAEA-02C9-4BEE-B7B6-56569C676E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006C-13FF-4160-825E-2D7921E702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AAB1-6160-4EDD-B1D8-6DD651F9F8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BF0B-F429-4B32-8DBA-20F8B7EEEF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4CBF-1BBD-4119-94A4-3D35A6FACB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3A0A-BFB8-4B3A-9426-8216617B56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76FD-095F-4066-88BB-E4BC425FBF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A3E4-1FF3-442A-88C5-B57B81853E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CB5F-B374-4B8A-AA67-2DD3E5D684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EEEC-41FD-461B-B38D-D7DB3FA877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37F5-B09F-477C-B98D-9702267180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CDE0-F9AB-4552-9402-7576EDBEF7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B5D3-99A7-43E2-8704-0B41A13200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E2FB-4562-45B8-8484-8918CDBB80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4E53-FCF6-4531-9101-167E9B9F99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47E8-4032-48E9-B855-459CAA512D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E6FB-3389-487E-84EA-DBEF8E2BE1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DF47-9FBA-4E8C-BFF4-658A05E0E7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A27F-0005-43F1-9B6C-084DF5E6F6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43D3-77A0-4CFC-B476-BD03350230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62D2-4FF2-4B82-AD7B-5806E1635D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06FE-1469-45F1-BDFB-321E3DB24B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9E4E-B070-4166-9FDC-AFDEA3D506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C9CA-BBBE-4C22-B699-7AAA220F4F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EA4A-79A0-40B8-9AF4-035AB930C5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ADDC-4380-4178-9114-42E2782246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F47D-A4A0-4241-8FAD-FC93A62F28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7F80-2B03-4818-9B9B-9EF9399C92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B41E-CB44-457D-9E91-D4447CB5C7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2C7F-6C56-4EAE-99EB-F7877A86FE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5B6A-8796-46DB-978E-891EF40239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BDF7-8592-4462-8A6C-9587E435CB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E32A-7F3D-4FCC-B437-F12D93648E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6343-85DD-4603-B36A-01C8301A9D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C674-CF1F-435B-B464-48B146B23A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EBBD-FB16-4273-8BE1-F142AE5C35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B647-78D5-4CF8-8B06-BEA9A36BED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2E1B-A296-4F5B-90A1-1299D29681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BCE5-454D-415E-BC2C-E6759A6BB0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760B-A173-4029-A47B-0CF348986C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EA35-59C5-46A8-B93D-E52D04B099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997B-8733-435B-96DB-76BE2B6A22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10BA-858A-49FB-8819-D242BC22C1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0" descr=""/>
          <p:cNvPicPr/>
          <p:nvPr/>
        </p:nvPicPr>
        <p:blipFill>
          <a:blip r:embed="rId1"/>
          <a:stretch/>
        </p:blipFill>
        <p:spPr>
          <a:xfrm>
            <a:off x="2176560" y="3114720"/>
            <a:ext cx="47908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0" name="图片 91137" descr=""/>
          <p:cNvPicPr/>
          <p:nvPr/>
        </p:nvPicPr>
        <p:blipFill>
          <a:blip r:embed="rId1"/>
          <a:stretch/>
        </p:blipFill>
        <p:spPr>
          <a:xfrm>
            <a:off x="534960" y="730080"/>
            <a:ext cx="8010720" cy="4935600"/>
          </a:xfrm>
          <a:prstGeom prst="rect">
            <a:avLst/>
          </a:prstGeom>
          <a:ln w="0">
            <a:noFill/>
          </a:ln>
        </p:spPr>
      </p:pic>
      <p:pic>
        <p:nvPicPr>
          <p:cNvPr id="1451" name="图片 91138" descr=""/>
          <p:cNvPicPr/>
          <p:nvPr/>
        </p:nvPicPr>
        <p:blipFill>
          <a:blip r:embed="rId2"/>
          <a:stretch/>
        </p:blipFill>
        <p:spPr>
          <a:xfrm>
            <a:off x="1139760" y="5703840"/>
            <a:ext cx="6991560" cy="943200"/>
          </a:xfrm>
          <a:prstGeom prst="rect">
            <a:avLst/>
          </a:prstGeom>
          <a:ln w="0">
            <a:noFill/>
          </a:ln>
        </p:spPr>
      </p:pic>
      <p:pic>
        <p:nvPicPr>
          <p:cNvPr id="1452" name="图片 91139" descr=""/>
          <p:cNvPicPr/>
          <p:nvPr/>
        </p:nvPicPr>
        <p:blipFill>
          <a:blip r:embed="rId3"/>
          <a:stretch/>
        </p:blipFill>
        <p:spPr>
          <a:xfrm>
            <a:off x="755640" y="4724280"/>
            <a:ext cx="514440" cy="362160"/>
          </a:xfrm>
          <a:prstGeom prst="rect">
            <a:avLst/>
          </a:prstGeom>
          <a:ln w="0">
            <a:noFill/>
          </a:ln>
        </p:spPr>
      </p:pic>
      <p:pic>
        <p:nvPicPr>
          <p:cNvPr id="1453" name="图片 91140" descr=""/>
          <p:cNvPicPr/>
          <p:nvPr/>
        </p:nvPicPr>
        <p:blipFill>
          <a:blip r:embed="rId4"/>
          <a:stretch/>
        </p:blipFill>
        <p:spPr>
          <a:xfrm>
            <a:off x="4427640" y="4653000"/>
            <a:ext cx="428400" cy="361800"/>
          </a:xfrm>
          <a:prstGeom prst="rect">
            <a:avLst/>
          </a:prstGeom>
          <a:ln w="0">
            <a:noFill/>
          </a:ln>
        </p:spPr>
      </p:pic>
      <p:sp>
        <p:nvSpPr>
          <p:cNvPr id="1454" name="矩形 91141"/>
          <p:cNvSpPr/>
          <p:nvPr/>
        </p:nvSpPr>
        <p:spPr>
          <a:xfrm>
            <a:off x="7667640" y="2349360"/>
            <a:ext cx="4935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图片 92161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039160" cy="3085920"/>
          </a:xfrm>
          <a:prstGeom prst="rect">
            <a:avLst/>
          </a:prstGeom>
          <a:ln w="0">
            <a:noFill/>
          </a:ln>
        </p:spPr>
      </p:pic>
      <p:sp>
        <p:nvSpPr>
          <p:cNvPr id="1456" name="矩形 92162"/>
          <p:cNvSpPr/>
          <p:nvPr/>
        </p:nvSpPr>
        <p:spPr>
          <a:xfrm>
            <a:off x="7308720" y="1989000"/>
            <a:ext cx="100332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7" name="图片 93185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077320" cy="2085840"/>
          </a:xfrm>
          <a:prstGeom prst="rect">
            <a:avLst/>
          </a:prstGeom>
          <a:ln w="0">
            <a:noFill/>
          </a:ln>
        </p:spPr>
      </p:pic>
      <p:pic>
        <p:nvPicPr>
          <p:cNvPr id="1458" name="图片 93186" descr=""/>
          <p:cNvPicPr/>
          <p:nvPr/>
        </p:nvPicPr>
        <p:blipFill>
          <a:blip r:embed="rId2"/>
          <a:stretch/>
        </p:blipFill>
        <p:spPr>
          <a:xfrm>
            <a:off x="1116000" y="3357720"/>
            <a:ext cx="7410600" cy="2057400"/>
          </a:xfrm>
          <a:prstGeom prst="rect">
            <a:avLst/>
          </a:prstGeom>
          <a:ln w="0">
            <a:noFill/>
          </a:ln>
        </p:spPr>
      </p:pic>
      <p:sp>
        <p:nvSpPr>
          <p:cNvPr id="1459" name="矩形 93187"/>
          <p:cNvSpPr/>
          <p:nvPr/>
        </p:nvSpPr>
        <p:spPr>
          <a:xfrm>
            <a:off x="6877080" y="3860640"/>
            <a:ext cx="100800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93188"/>
          <p:cNvSpPr/>
          <p:nvPr/>
        </p:nvSpPr>
        <p:spPr>
          <a:xfrm>
            <a:off x="6156360" y="4437000"/>
            <a:ext cx="100800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图片 94209" descr=""/>
          <p:cNvPicPr/>
          <p:nvPr/>
        </p:nvPicPr>
        <p:blipFill>
          <a:blip r:embed="rId1"/>
          <a:stretch/>
        </p:blipFill>
        <p:spPr>
          <a:xfrm>
            <a:off x="588960" y="728640"/>
            <a:ext cx="7956720" cy="5902200"/>
          </a:xfrm>
          <a:prstGeom prst="rect">
            <a:avLst/>
          </a:prstGeom>
          <a:ln w="0">
            <a:noFill/>
          </a:ln>
        </p:spPr>
      </p:pic>
      <p:sp>
        <p:nvSpPr>
          <p:cNvPr id="1462" name="矩形 94210"/>
          <p:cNvSpPr/>
          <p:nvPr/>
        </p:nvSpPr>
        <p:spPr>
          <a:xfrm>
            <a:off x="3419640" y="2803680"/>
            <a:ext cx="129672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矩形 94211"/>
          <p:cNvSpPr/>
          <p:nvPr/>
        </p:nvSpPr>
        <p:spPr>
          <a:xfrm>
            <a:off x="7115040" y="2803680"/>
            <a:ext cx="91620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矩形 94212"/>
          <p:cNvSpPr/>
          <p:nvPr/>
        </p:nvSpPr>
        <p:spPr>
          <a:xfrm>
            <a:off x="4859280" y="3357720"/>
            <a:ext cx="91620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图片 95233" descr=""/>
          <p:cNvPicPr/>
          <p:nvPr/>
        </p:nvPicPr>
        <p:blipFill>
          <a:blip r:embed="rId1"/>
          <a:stretch/>
        </p:blipFill>
        <p:spPr>
          <a:xfrm>
            <a:off x="561960" y="1076400"/>
            <a:ext cx="8020080" cy="4705200"/>
          </a:xfrm>
          <a:prstGeom prst="rect">
            <a:avLst/>
          </a:prstGeom>
          <a:ln w="0">
            <a:noFill/>
          </a:ln>
        </p:spPr>
      </p:pic>
      <p:sp>
        <p:nvSpPr>
          <p:cNvPr id="1466" name="矩形 95235"/>
          <p:cNvSpPr/>
          <p:nvPr/>
        </p:nvSpPr>
        <p:spPr>
          <a:xfrm>
            <a:off x="8161200" y="2190600"/>
            <a:ext cx="38736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 95236"/>
          <p:cNvSpPr/>
          <p:nvPr/>
        </p:nvSpPr>
        <p:spPr>
          <a:xfrm>
            <a:off x="1165320" y="2747880"/>
            <a:ext cx="38736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矩形 95237"/>
          <p:cNvSpPr/>
          <p:nvPr/>
        </p:nvSpPr>
        <p:spPr>
          <a:xfrm>
            <a:off x="5651640" y="3284640"/>
            <a:ext cx="79200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矩形 95238"/>
          <p:cNvSpPr/>
          <p:nvPr/>
        </p:nvSpPr>
        <p:spPr>
          <a:xfrm>
            <a:off x="5724360" y="3789360"/>
            <a:ext cx="7923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0" name="图片 96257" descr=""/>
          <p:cNvPicPr/>
          <p:nvPr/>
        </p:nvPicPr>
        <p:blipFill>
          <a:blip r:embed="rId1"/>
          <a:stretch/>
        </p:blipFill>
        <p:spPr>
          <a:xfrm>
            <a:off x="549360" y="808200"/>
            <a:ext cx="8058240" cy="5648040"/>
          </a:xfrm>
          <a:prstGeom prst="rect">
            <a:avLst/>
          </a:prstGeom>
          <a:ln w="0">
            <a:noFill/>
          </a:ln>
        </p:spPr>
      </p:pic>
      <p:sp>
        <p:nvSpPr>
          <p:cNvPr id="1471" name="矩形 96258"/>
          <p:cNvSpPr/>
          <p:nvPr/>
        </p:nvSpPr>
        <p:spPr>
          <a:xfrm>
            <a:off x="1908000" y="5676840"/>
            <a:ext cx="1146240" cy="66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2" name="图片 97281" descr=""/>
          <p:cNvPicPr/>
          <p:nvPr/>
        </p:nvPicPr>
        <p:blipFill>
          <a:blip r:embed="rId1"/>
          <a:stretch/>
        </p:blipFill>
        <p:spPr>
          <a:xfrm>
            <a:off x="828720" y="1533600"/>
            <a:ext cx="7486560" cy="3790800"/>
          </a:xfrm>
          <a:prstGeom prst="rect">
            <a:avLst/>
          </a:prstGeom>
          <a:ln w="0">
            <a:noFill/>
          </a:ln>
        </p:spPr>
      </p:pic>
      <p:sp>
        <p:nvSpPr>
          <p:cNvPr id="1473" name="矩形 97282"/>
          <p:cNvSpPr/>
          <p:nvPr/>
        </p:nvSpPr>
        <p:spPr>
          <a:xfrm>
            <a:off x="5508720" y="2060640"/>
            <a:ext cx="503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矩形 97283"/>
          <p:cNvSpPr/>
          <p:nvPr/>
        </p:nvSpPr>
        <p:spPr>
          <a:xfrm>
            <a:off x="7380360" y="2637000"/>
            <a:ext cx="503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图片 98305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7981920" cy="5353200"/>
          </a:xfrm>
          <a:prstGeom prst="rect">
            <a:avLst/>
          </a:prstGeom>
          <a:ln w="0">
            <a:noFill/>
          </a:ln>
        </p:spPr>
      </p:pic>
      <p:sp>
        <p:nvSpPr>
          <p:cNvPr id="1476" name="矩形 98306"/>
          <p:cNvSpPr/>
          <p:nvPr/>
        </p:nvSpPr>
        <p:spPr>
          <a:xfrm>
            <a:off x="2268360" y="3533760"/>
            <a:ext cx="82584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7" name="图片 99330" descr=""/>
          <p:cNvPicPr/>
          <p:nvPr/>
        </p:nvPicPr>
        <p:blipFill>
          <a:blip r:embed="rId1"/>
          <a:stretch/>
        </p:blipFill>
        <p:spPr>
          <a:xfrm>
            <a:off x="776160" y="2004840"/>
            <a:ext cx="7591680" cy="2848320"/>
          </a:xfrm>
          <a:prstGeom prst="rect">
            <a:avLst/>
          </a:prstGeom>
          <a:ln w="0">
            <a:noFill/>
          </a:ln>
        </p:spPr>
      </p:pic>
      <p:sp>
        <p:nvSpPr>
          <p:cNvPr id="1478" name="矩形 99331"/>
          <p:cNvSpPr/>
          <p:nvPr/>
        </p:nvSpPr>
        <p:spPr>
          <a:xfrm>
            <a:off x="826920" y="2060640"/>
            <a:ext cx="4043520" cy="466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99332"/>
          <p:cNvSpPr/>
          <p:nvPr/>
        </p:nvSpPr>
        <p:spPr>
          <a:xfrm>
            <a:off x="826920" y="2637000"/>
            <a:ext cx="4043520" cy="466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99333"/>
          <p:cNvSpPr/>
          <p:nvPr/>
        </p:nvSpPr>
        <p:spPr>
          <a:xfrm>
            <a:off x="826920" y="3141720"/>
            <a:ext cx="4043520" cy="466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99334"/>
          <p:cNvSpPr/>
          <p:nvPr/>
        </p:nvSpPr>
        <p:spPr>
          <a:xfrm>
            <a:off x="826920" y="3645000"/>
            <a:ext cx="4043520" cy="466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矩形 99335"/>
          <p:cNvSpPr/>
          <p:nvPr/>
        </p:nvSpPr>
        <p:spPr>
          <a:xfrm>
            <a:off x="684360" y="4221000"/>
            <a:ext cx="4043160" cy="4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图片 100353" descr=""/>
          <p:cNvPicPr/>
          <p:nvPr/>
        </p:nvPicPr>
        <p:blipFill>
          <a:blip r:embed="rId1"/>
          <a:stretch/>
        </p:blipFill>
        <p:spPr>
          <a:xfrm>
            <a:off x="1133640" y="1633680"/>
            <a:ext cx="6876720" cy="3590640"/>
          </a:xfrm>
          <a:prstGeom prst="rect">
            <a:avLst/>
          </a:prstGeom>
          <a:ln w="0">
            <a:noFill/>
          </a:ln>
        </p:spPr>
      </p:pic>
      <p:sp>
        <p:nvSpPr>
          <p:cNvPr id="1484" name="矩形 100354"/>
          <p:cNvSpPr/>
          <p:nvPr/>
        </p:nvSpPr>
        <p:spPr>
          <a:xfrm>
            <a:off x="1187280" y="1557360"/>
            <a:ext cx="5077080" cy="766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矩形 100355"/>
          <p:cNvSpPr/>
          <p:nvPr/>
        </p:nvSpPr>
        <p:spPr>
          <a:xfrm>
            <a:off x="1116000" y="2565360"/>
            <a:ext cx="707220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100356"/>
          <p:cNvSpPr/>
          <p:nvPr/>
        </p:nvSpPr>
        <p:spPr>
          <a:xfrm>
            <a:off x="1031760" y="3813120"/>
            <a:ext cx="6121440" cy="442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100357"/>
          <p:cNvSpPr/>
          <p:nvPr/>
        </p:nvSpPr>
        <p:spPr>
          <a:xfrm>
            <a:off x="1187280" y="4365720"/>
            <a:ext cx="56739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88065" descr=""/>
          <p:cNvPicPr/>
          <p:nvPr/>
        </p:nvPicPr>
        <p:blipFill>
          <a:blip r:embed="rId1"/>
          <a:stretch/>
        </p:blipFill>
        <p:spPr>
          <a:xfrm>
            <a:off x="538200" y="1547640"/>
            <a:ext cx="8067600" cy="3762720"/>
          </a:xfrm>
          <a:prstGeom prst="rect">
            <a:avLst/>
          </a:prstGeom>
          <a:ln w="0">
            <a:noFill/>
          </a:ln>
        </p:spPr>
      </p:pic>
      <p:sp>
        <p:nvSpPr>
          <p:cNvPr id="1434" name="矩形 88066"/>
          <p:cNvSpPr/>
          <p:nvPr/>
        </p:nvSpPr>
        <p:spPr>
          <a:xfrm>
            <a:off x="7812000" y="2637000"/>
            <a:ext cx="49392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8" name="图片 101377" descr=""/>
          <p:cNvPicPr/>
          <p:nvPr/>
        </p:nvPicPr>
        <p:blipFill>
          <a:blip r:embed="rId1"/>
          <a:stretch/>
        </p:blipFill>
        <p:spPr>
          <a:xfrm>
            <a:off x="561960" y="1557360"/>
            <a:ext cx="80200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9" name="图片 102401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7115400" cy="5610240"/>
          </a:xfrm>
          <a:prstGeom prst="rect">
            <a:avLst/>
          </a:prstGeom>
          <a:ln w="0">
            <a:noFill/>
          </a:ln>
        </p:spPr>
      </p:pic>
      <p:sp>
        <p:nvSpPr>
          <p:cNvPr id="1490" name="矩形 102402"/>
          <p:cNvSpPr/>
          <p:nvPr/>
        </p:nvSpPr>
        <p:spPr>
          <a:xfrm>
            <a:off x="1042920" y="3500280"/>
            <a:ext cx="570708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矩形 102403"/>
          <p:cNvSpPr/>
          <p:nvPr/>
        </p:nvSpPr>
        <p:spPr>
          <a:xfrm>
            <a:off x="1042920" y="4076640"/>
            <a:ext cx="3549600" cy="7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矩形 102404"/>
          <p:cNvSpPr/>
          <p:nvPr/>
        </p:nvSpPr>
        <p:spPr>
          <a:xfrm>
            <a:off x="900000" y="5013360"/>
            <a:ext cx="480564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102405"/>
          <p:cNvSpPr/>
          <p:nvPr/>
        </p:nvSpPr>
        <p:spPr>
          <a:xfrm>
            <a:off x="826920" y="5616720"/>
            <a:ext cx="5007240" cy="7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87041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8096400" cy="3771720"/>
          </a:xfrm>
          <a:prstGeom prst="rect">
            <a:avLst/>
          </a:prstGeom>
          <a:ln w="0">
            <a:noFill/>
          </a:ln>
        </p:spPr>
      </p:pic>
      <p:sp>
        <p:nvSpPr>
          <p:cNvPr id="1436" name="矩形 87042"/>
          <p:cNvSpPr/>
          <p:nvPr/>
        </p:nvSpPr>
        <p:spPr>
          <a:xfrm>
            <a:off x="7740720" y="4365720"/>
            <a:ext cx="4935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7" name="图片 86017" descr=""/>
          <p:cNvPicPr/>
          <p:nvPr/>
        </p:nvPicPr>
        <p:blipFill>
          <a:blip r:embed="rId1"/>
          <a:stretch/>
        </p:blipFill>
        <p:spPr>
          <a:xfrm>
            <a:off x="528480" y="2081160"/>
            <a:ext cx="8087040" cy="2695680"/>
          </a:xfrm>
          <a:prstGeom prst="rect">
            <a:avLst/>
          </a:prstGeom>
          <a:ln w="0">
            <a:noFill/>
          </a:ln>
        </p:spPr>
      </p:pic>
      <p:sp>
        <p:nvSpPr>
          <p:cNvPr id="1438" name="矩形 86018"/>
          <p:cNvSpPr/>
          <p:nvPr/>
        </p:nvSpPr>
        <p:spPr>
          <a:xfrm>
            <a:off x="7740720" y="3213000"/>
            <a:ext cx="4935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9" name="图片 84993" descr=""/>
          <p:cNvPicPr/>
          <p:nvPr/>
        </p:nvPicPr>
        <p:blipFill>
          <a:blip r:embed="rId1"/>
          <a:stretch/>
        </p:blipFill>
        <p:spPr>
          <a:xfrm>
            <a:off x="552600" y="857160"/>
            <a:ext cx="8038800" cy="5143680"/>
          </a:xfrm>
          <a:prstGeom prst="rect">
            <a:avLst/>
          </a:prstGeom>
          <a:ln w="0">
            <a:noFill/>
          </a:ln>
        </p:spPr>
      </p:pic>
      <p:sp>
        <p:nvSpPr>
          <p:cNvPr id="1440" name="矩形 84994"/>
          <p:cNvSpPr/>
          <p:nvPr/>
        </p:nvSpPr>
        <p:spPr>
          <a:xfrm>
            <a:off x="7740720" y="2492280"/>
            <a:ext cx="4935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1" name="图片 83969" descr=""/>
          <p:cNvPicPr/>
          <p:nvPr/>
        </p:nvPicPr>
        <p:blipFill>
          <a:blip r:embed="rId1"/>
          <a:stretch/>
        </p:blipFill>
        <p:spPr>
          <a:xfrm>
            <a:off x="566640" y="1552680"/>
            <a:ext cx="8010720" cy="3752640"/>
          </a:xfrm>
          <a:prstGeom prst="rect">
            <a:avLst/>
          </a:prstGeom>
          <a:ln w="0">
            <a:noFill/>
          </a:ln>
        </p:spPr>
      </p:pic>
      <p:sp>
        <p:nvSpPr>
          <p:cNvPr id="1442" name="矩形 83970"/>
          <p:cNvSpPr/>
          <p:nvPr/>
        </p:nvSpPr>
        <p:spPr>
          <a:xfrm>
            <a:off x="7740720" y="2708280"/>
            <a:ext cx="4935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3" name="图片 8294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039160" cy="2600640"/>
          </a:xfrm>
          <a:prstGeom prst="rect">
            <a:avLst/>
          </a:prstGeom>
          <a:ln w="0">
            <a:noFill/>
          </a:ln>
        </p:spPr>
      </p:pic>
      <p:pic>
        <p:nvPicPr>
          <p:cNvPr id="1444" name="图片 82946" descr=""/>
          <p:cNvPicPr/>
          <p:nvPr/>
        </p:nvPicPr>
        <p:blipFill>
          <a:blip r:embed="rId2"/>
          <a:stretch/>
        </p:blipFill>
        <p:spPr>
          <a:xfrm>
            <a:off x="922320" y="3416400"/>
            <a:ext cx="7515360" cy="2685960"/>
          </a:xfrm>
          <a:prstGeom prst="rect">
            <a:avLst/>
          </a:prstGeom>
          <a:ln w="0">
            <a:noFill/>
          </a:ln>
        </p:spPr>
      </p:pic>
      <p:sp>
        <p:nvSpPr>
          <p:cNvPr id="1445" name="矩形 82947"/>
          <p:cNvSpPr/>
          <p:nvPr/>
        </p:nvSpPr>
        <p:spPr>
          <a:xfrm>
            <a:off x="7667640" y="3489480"/>
            <a:ext cx="4935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6" name="图片 89089" descr=""/>
          <p:cNvPicPr/>
          <p:nvPr/>
        </p:nvPicPr>
        <p:blipFill>
          <a:blip r:embed="rId1"/>
          <a:stretch/>
        </p:blipFill>
        <p:spPr>
          <a:xfrm>
            <a:off x="441360" y="777960"/>
            <a:ext cx="8010360" cy="2905200"/>
          </a:xfrm>
          <a:prstGeom prst="rect">
            <a:avLst/>
          </a:prstGeom>
          <a:ln w="0">
            <a:noFill/>
          </a:ln>
        </p:spPr>
      </p:pic>
      <p:pic>
        <p:nvPicPr>
          <p:cNvPr id="1447" name="图片 89090" descr=""/>
          <p:cNvPicPr/>
          <p:nvPr/>
        </p:nvPicPr>
        <p:blipFill>
          <a:blip r:embed="rId2"/>
          <a:stretch/>
        </p:blipFill>
        <p:spPr>
          <a:xfrm>
            <a:off x="1587600" y="3809880"/>
            <a:ext cx="6248160" cy="1171800"/>
          </a:xfrm>
          <a:prstGeom prst="rect">
            <a:avLst/>
          </a:prstGeom>
          <a:ln w="0">
            <a:noFill/>
          </a:ln>
        </p:spPr>
      </p:pic>
      <p:sp>
        <p:nvSpPr>
          <p:cNvPr id="1448" name="矩形 89091"/>
          <p:cNvSpPr/>
          <p:nvPr/>
        </p:nvSpPr>
        <p:spPr>
          <a:xfrm>
            <a:off x="7667640" y="1844640"/>
            <a:ext cx="4935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9" name="图片 90113" descr=""/>
          <p:cNvPicPr/>
          <p:nvPr/>
        </p:nvPicPr>
        <p:blipFill>
          <a:blip r:embed="rId1"/>
          <a:stretch/>
        </p:blipFill>
        <p:spPr>
          <a:xfrm>
            <a:off x="757080" y="2057400"/>
            <a:ext cx="76298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31:47Z</dcterms:modified>
  <cp:revision>2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